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4BA-6FF8-42C5-BE06-FFBC8176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CED-99BD-4D49-9D8F-77FB90D2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0ACB-0EEA-4ED1-A352-C30BFC34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CBF-E4DD-403E-A958-8589B60F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FDB5-A2D7-46C6-B7C4-9713F160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8D99-23B7-439A-86AB-1C2B63B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B96F-E5FE-424E-8A3E-73CA8FCA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DE74-02FD-4990-B30B-5A4DB2B3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914F-A227-45BA-A7CF-335D1230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AAD4-D406-4F7D-B6F4-A095630A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91F3-507E-4C58-9E8D-92704C2B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96E-6636-4CA4-9EA8-B2714C63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BCA8-6C96-427F-9615-4728938B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B851-09BC-4E0A-AD35-4B313B6A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597E-1CC4-4E89-A710-D4C82C07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78AB-759B-4834-9D88-70CA8D28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6E74-F054-442E-86FD-2C269B54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D17-535F-4544-85B4-FF9E38D6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A1E-67BE-4C1C-AEF9-00518EFA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F12-A304-4A35-9681-821D5641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5AE-AB60-4794-9D02-59CC1E39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8E9-9836-4EE3-A552-CEA00E46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2CD-AFE7-43C4-8A6B-71E1FE2D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CE2-1BB3-4E00-964A-551BD0F4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40EB-18B1-487E-96FB-6AB9D9D19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E130-1FFC-4434-A799-830335FC7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-Lab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 Calculate the amount of oxygen consumed per minute for each v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Reading/12 (total # of minutes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 mL of oxygen/min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 Explain why the germinating seeds use more oxygen per minute than the dry see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consume oxygen but the germinating peas need mo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growth and development.  Therefore, they respire at a higher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2438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 What is the effect of temperature on the volume of a gas?  How will this affect the readings of oxygen consump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581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proportional - an increased temperature = increased gas volume &amp;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xygen readings are greater at higher tempera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981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 How does temperature affect the rate of metabolic reactions within a living organism?  Expl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piration rate of warm-blooded animals is independent of environmental temperature but for plants and cold-blooded animals, a drop in temperature results in a decreased respiration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What gas is being consumed by the germinating pe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Write a balanced equation for the process of cellular respir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534520" cy="3962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--&gt; 6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+ 3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What is the germinating seed using for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What specific activities are going on in the peas as they germin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ion, growth, &amp;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Why is it necessary to correct the readings for the peas with those of the glass beads?  Expl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only oxygen used by the peas is measured = accurat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at are due to temperature or pressure differences rather than actual oxygen consumption by peas must be subtracted from the rea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30481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= True     B = Fal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closed system, such as these vials, the number of molecules of gas taken in is equal to the number of molecules of carbon dioxide gas given off during cellular respir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8229600" cy="15238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- True.  The balanced equation shows 6 molecules of oxygen reacting and 6 molecules of carbon dioxide being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600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 What effect does the KOH have on the total number of gas molecules in the vial?  Expl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it - KOH converts the 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 into a solid, therefore lowering the number of gas molecules in the v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30481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 How does this affect the air pressure in the vial?  How does this affect the amount of movement in the bubble (total oxygen consumption) over ti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4266720"/>
            <a:ext cx="8534160" cy="2210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gas = less pressure; as pressure drops, water moves inward, toward the v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5:39:36Z</dcterms:created>
  <dc:creator>NHS NPS</dc:creator>
  <dc:description/>
  <dc:language>en-US</dc:language>
  <cp:lastModifiedBy>NHS NPS</cp:lastModifiedBy>
  <dcterms:modified xsi:type="dcterms:W3CDTF">2011-11-16T16:21:57Z</dcterms:modified>
  <cp:revision>3</cp:revision>
  <dc:subject/>
  <dc:title>Post-Lab Analysis</dc:title>
</cp:coreProperties>
</file>